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80D-FCF6-433E-AC34-FBEE5ADF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C06-9A4D-419A-A46F-03508C87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801-0628-417D-9985-E61447FE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900-627C-4438-A89F-BF4959EB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246-8BA5-4334-A2D6-F1C3D92E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139-91D2-4DFE-95F6-F830FDDE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64E-A7DB-4ABE-9FD2-7943603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10D-CA1B-4AD6-AE74-697A2D8F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B8D-7FBC-4B3E-8179-A8019010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578-0C19-4AAC-8FCB-CC8291C9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9DB-03AE-4524-9F68-2FBF1D1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EEF-0419-4FC0-9BAA-294A5DEE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FE53-E3C4-463C-81EF-AE57C77D2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teroids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mall rocky objects that revolve around the sun and are too small to be pla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eroids revolve around the sun between Mars and Jupiter in the Asteroid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largest asteroids: Ceres, Pallas, V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steroids have long elliptical orbits around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9:08:13Z</dcterms:created>
  <dc:creator>skrial</dc:creator>
  <dc:description/>
  <dc:language>en-US</dc:language>
  <cp:lastModifiedBy>skrial</cp:lastModifiedBy>
  <dcterms:modified xsi:type="dcterms:W3CDTF">2009-11-16T19:08:29Z</dcterms:modified>
  <cp:revision>1</cp:revision>
  <dc:subject/>
  <dc:title>Slide 1</dc:title>
</cp:coreProperties>
</file>